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D66-ABF1-4D70-85D6-4EAFB3D0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4A3-8C50-47DD-A03E-AC6A5D06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794-E605-4426-BA8F-9C58DA53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E27-7D88-48F2-ADCA-348D47D6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9C1-6A09-4009-BE81-3789B70B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4A3-70D3-4639-A6ED-DE808330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93A-3000-47FC-8F4C-0C0839A5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21E-5FFA-4CFB-9A78-B55C56F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405-61BD-4BD9-8CD0-DAAB3984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8D1-C409-4D32-9139-A74DA88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3CC-9873-4E8A-9AB1-8AD868B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2B5-6A51-4C56-AE21-56517E5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E275-E85E-4386-9EA7-837BCE886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6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IZ: Repaso B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próximo MA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.: To review for Quiz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- Conjug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I- Comple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lores no ________ much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 un exame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_ la comid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ci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 _________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 _________ mucho en clas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________ a México en el vera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 el cuader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p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_________ la televisión después de clas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i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I- Completa con un PRONOMBRE correc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cantas muy bie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oca el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rabajo mucho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sacan buenas n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voy a la casa de L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compro el lápiz en la papel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trabajamos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enseña la lec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N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: REPASO B del MAR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/Stor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, Dar,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V- Completa con la PREGUNTA cor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88416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va a la escuela en bus publ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llega a la escuela a las siete 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toma 5 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l curso favorito de Ana es i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a lleva un cuaderno y una pluma a la cl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676520" y="914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ómo va Ana a la esc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295280" y="21146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Verdana"/>
              </a:rPr>
              <a:t>Cuándo </a:t>
            </a:r>
            <a:r>
              <a:rPr b="0" lang="es-ES_tradnl" sz="2000" spc="-1" strike="noStrike">
                <a:solidFill>
                  <a:srgbClr val="0070c0"/>
                </a:solidFill>
                <a:latin typeface="Verdana"/>
              </a:rPr>
              <a:t>(A qué hora) 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</a:rPr>
              <a:t>llega Ana a la esc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52480" y="3271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uántos cursos toma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7920" y="4414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uál es el curso favorito de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600200" y="5634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Qué lleva Ana a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8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IZ: Repaso B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próximo MA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.: To review for Quiz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- Conjug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- Copia y responde en oraciones compl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compras una camise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Hablas con el empleado en la t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alla u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 pag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pag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5800" y="182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ompro una camiseta en la tienda de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5800" y="2967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Si, hablo con el empleado en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19320" y="4110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Uso talla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219320" y="5329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Pago ______ dó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6200" y="5943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Pago en la c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28:31Z</dcterms:created>
  <dc:creator>Helen Zumaeta</dc:creator>
  <dc:description/>
  <dc:language>en-US</dc:language>
  <cp:lastModifiedBy>Helen Zumaeta</cp:lastModifiedBy>
  <dcterms:modified xsi:type="dcterms:W3CDTF">2015-10-06T18:18:51Z</dcterms:modified>
  <cp:revision>25</cp:revision>
  <dc:subject/>
  <dc:title>Me llamo ________ Clase 6nh/il La fecha es el 14 de febrero del 2011</dc:title>
</cp:coreProperties>
</file>